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bomb.wav" ContentType="audio/x-wav"/>
  <Override PartName="/ppt/media/image20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7.png" ContentType="image/png"/>
  <Override PartName="/ppt/media/click.wav" ContentType="audio/x-wav"/>
  <Override PartName="/ppt/media/image24.png" ContentType="image/png"/>
  <Override PartName="/ppt/media/image8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30.png" ContentType="image/png"/>
  <Override PartName="/ppt/media/voltag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F14-F6E2-4E32-8D47-728A0AF6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2BD-C658-4FE9-BC0F-37E148DA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756-6F2F-40DB-B1AA-72C06D37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5C9-3CB8-4767-A2D8-8257C216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1839-75E6-423D-A4D9-7B302479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DB99-0E8D-42D1-B800-8DD26AA4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DC92-4122-4DDD-999C-BDFE548C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CF4F-DD17-4420-88F7-481C4EEB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C8D4-DEAB-46DF-8BB0-163F5E06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3D12-8D54-40FB-A419-49086DCC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C8A6-8704-4C1E-BAF9-DD4C0179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871-6A89-4199-9F96-898B9341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B0F9-A76C-4EC0-B635-CCEFF8A4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7E94-5511-48D3-B3BA-BAC3A35D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9D1C-56E2-40FA-8019-CC1C8D26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7335-C13A-4EBF-B0F1-1256B99C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CFD5-825B-4C90-B66E-78A120FA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476-063E-4B12-BE1F-3E877FBB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794-6833-493E-B55C-0C781D29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834-FFBC-4E0E-A011-39FB91B5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0F6-B463-44AD-AA6F-97A239AB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420-9F67-4813-9901-AAFCBB0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3FE-B1B8-4C01-BCD8-659CA426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AD6-6895-466A-91DC-2191984F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457D-9DEA-4090-890C-C995CA1D3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219D-DC7F-4894-982B-4591692CD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audio" Target="../media/suction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suction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click.wav"/><Relationship Id="rId14" Type="http://schemas.openxmlformats.org/officeDocument/2006/relationships/audio" Target="../media/type.wav"/><Relationship Id="rId15" Type="http://schemas.openxmlformats.org/officeDocument/2006/relationships/audio" Target="../media/click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aisha S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kaisha Station – Guest Quart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41480" y="1676520"/>
            <a:ext cx="346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uest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27360" y="1676520"/>
            <a:ext cx="36878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ravitic P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94000" cy="4219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4194000" cy="194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9325080" y="2133720"/>
            <a:ext cx="2952720" cy="1936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252000" y="3357720"/>
            <a:ext cx="29527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Motion origin="layout" path="M 0 -9.25283E-007 L -0.56319 0.00578 E">
                                      <p:cBhvr>
                                        <p:cTn id="21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Motion origin="layout" path="M -3.88889E-006 -1.72103E-006 L -0.53941 0.00185 E">
                                      <p:cBhvr>
                                        <p:cTn id="2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D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42920" y="1676520"/>
            <a:ext cx="705636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77336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89080" y="1676520"/>
            <a:ext cx="67644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52640" y="1676520"/>
            <a:ext cx="703728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0800" y="1676520"/>
            <a:ext cx="57006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71640" y="6165720"/>
            <a:ext cx="1513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08000" y="1268280"/>
            <a:ext cx="5040360" cy="5329440"/>
            <a:chOff x="-108000" y="1268280"/>
            <a:chExt cx="5040360" cy="5329440"/>
          </a:xfrm>
        </p:grpSpPr>
        <p:sp>
          <p:nvSpPr>
            <p:cNvPr id="87" name=""/>
            <p:cNvSpPr/>
            <p:nvPr/>
          </p:nvSpPr>
          <p:spPr>
            <a:xfrm>
              <a:off x="179280" y="1700280"/>
              <a:ext cx="4392720" cy="439272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1640" y="2492280"/>
              <a:ext cx="2881080" cy="288144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411280" y="5661000"/>
              <a:ext cx="0" cy="936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11280" y="1268280"/>
              <a:ext cx="0" cy="165600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1164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-10800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05092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411280" y="3500280"/>
              <a:ext cx="0" cy="720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546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987640" y="4076640"/>
            <a:ext cx="2233800" cy="441360"/>
            <a:chOff x="2987640" y="4076640"/>
            <a:chExt cx="2233800" cy="441360"/>
          </a:xfrm>
        </p:grpSpPr>
        <p:sp>
          <p:nvSpPr>
            <p:cNvPr id="98" name=""/>
            <p:cNvSpPr/>
            <p:nvPr/>
          </p:nvSpPr>
          <p:spPr>
            <a:xfrm>
              <a:off x="3492360" y="4149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987640" y="4076640"/>
              <a:ext cx="504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1640" y="2276640"/>
            <a:ext cx="2160720" cy="368280"/>
            <a:chOff x="2771640" y="2276640"/>
            <a:chExt cx="2160720" cy="368280"/>
          </a:xfrm>
        </p:grpSpPr>
        <p:sp>
          <p:nvSpPr>
            <p:cNvPr id="101" name=""/>
            <p:cNvSpPr/>
            <p:nvPr/>
          </p:nvSpPr>
          <p:spPr>
            <a:xfrm>
              <a:off x="3276720" y="227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ff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771640" y="2492280"/>
              <a:ext cx="503280" cy="73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71280" y="1773360"/>
            <a:ext cx="2305440" cy="431640"/>
            <a:chOff x="2771280" y="1773360"/>
            <a:chExt cx="2305440" cy="431640"/>
          </a:xfrm>
        </p:grpSpPr>
        <p:sp>
          <p:nvSpPr>
            <p:cNvPr id="104" name=""/>
            <p:cNvSpPr/>
            <p:nvPr/>
          </p:nvSpPr>
          <p:spPr>
            <a:xfrm>
              <a:off x="3132000" y="1773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71280" y="1989000"/>
              <a:ext cx="360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55640" y="1341360"/>
            <a:ext cx="1511640" cy="432000"/>
            <a:chOff x="2555640" y="1341360"/>
            <a:chExt cx="1511640" cy="432000"/>
          </a:xfrm>
        </p:grpSpPr>
        <p:sp>
          <p:nvSpPr>
            <p:cNvPr id="107" name=""/>
            <p:cNvSpPr/>
            <p:nvPr/>
          </p:nvSpPr>
          <p:spPr>
            <a:xfrm>
              <a:off x="2700360" y="1341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BD Arr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55640" y="1557360"/>
              <a:ext cx="1429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16000" y="1773360"/>
            <a:ext cx="1224000" cy="851400"/>
            <a:chOff x="1116000" y="1773360"/>
            <a:chExt cx="1224000" cy="851400"/>
          </a:xfrm>
        </p:grpSpPr>
        <p:sp>
          <p:nvSpPr>
            <p:cNvPr id="110" name=""/>
            <p:cNvSpPr/>
            <p:nvPr/>
          </p:nvSpPr>
          <p:spPr>
            <a:xfrm>
              <a:off x="1116000" y="17733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or w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31760" y="2412720"/>
              <a:ext cx="408240" cy="21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492360" y="2708280"/>
            <a:ext cx="1584000" cy="580680"/>
            <a:chOff x="3492360" y="2708280"/>
            <a:chExt cx="1584000" cy="580680"/>
          </a:xfrm>
        </p:grpSpPr>
        <p:grpSp>
          <p:nvGrpSpPr>
            <p:cNvPr id="113" name=""/>
            <p:cNvGrpSpPr/>
            <p:nvPr/>
          </p:nvGrpSpPr>
          <p:grpSpPr>
            <a:xfrm>
              <a:off x="3492360" y="2708280"/>
              <a:ext cx="1584000" cy="580680"/>
              <a:chOff x="3492360" y="2708280"/>
              <a:chExt cx="1584000" cy="580680"/>
            </a:xfrm>
          </p:grpSpPr>
          <p:sp>
            <p:nvSpPr>
              <p:cNvPr id="114" name=""/>
              <p:cNvSpPr/>
              <p:nvPr/>
            </p:nvSpPr>
            <p:spPr>
              <a:xfrm>
                <a:off x="3889080" y="2708280"/>
                <a:ext cx="118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rydock modu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492360" y="30798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3492360" y="3080160"/>
              <a:ext cx="44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435640" y="1268280"/>
            <a:ext cx="3708360" cy="533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onnage : 5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Main computer : Mk 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rmour type : 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EW rating :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hield rating : 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BD range : 30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Weaponry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Laser cannons: 6, Mk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Ion cannons: 2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Plasma gun: 1, Mk 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Matter/Antimatter torpedo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3 tubes, 10 each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Reactor : Matter/Antima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Auxiliary : F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Max sublight Accel : 5 km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Total crew : 3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uest capacity : 4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Docking berths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Pressurised/Internal :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ravitic pads :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External access tubes :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16360" y="6308640"/>
            <a:ext cx="1218960" cy="2192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924000" y="3284640"/>
            <a:ext cx="1440000" cy="824040"/>
            <a:chOff x="3924000" y="3284640"/>
            <a:chExt cx="1440000" cy="824040"/>
          </a:xfrm>
        </p:grpSpPr>
        <p:sp>
          <p:nvSpPr>
            <p:cNvPr id="120" name=""/>
            <p:cNvSpPr/>
            <p:nvPr/>
          </p:nvSpPr>
          <p:spPr>
            <a:xfrm>
              <a:off x="4229280" y="3284640"/>
              <a:ext cx="11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24000" y="386064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84360" y="4292640"/>
            <a:ext cx="1296720" cy="946440"/>
            <a:chOff x="684360" y="4292640"/>
            <a:chExt cx="1296720" cy="946440"/>
          </a:xfrm>
        </p:grpSpPr>
        <p:sp>
          <p:nvSpPr>
            <p:cNvPr id="123" name=""/>
            <p:cNvSpPr/>
            <p:nvPr/>
          </p:nvSpPr>
          <p:spPr>
            <a:xfrm>
              <a:off x="684360" y="4292640"/>
              <a:ext cx="129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7600" y="4627800"/>
              <a:ext cx="30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44960" cy="441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204480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2340000" cy="209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2852640"/>
            <a:ext cx="1382760" cy="12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050920" y="3789360"/>
            <a:ext cx="8035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300720" y="1916280"/>
            <a:ext cx="2304720" cy="337320"/>
            <a:chOff x="6300720" y="1916280"/>
            <a:chExt cx="2304720" cy="337320"/>
          </a:xfrm>
        </p:grpSpPr>
        <p:sp>
          <p:nvSpPr>
            <p:cNvPr id="132" name=""/>
            <p:cNvSpPr/>
            <p:nvPr/>
          </p:nvSpPr>
          <p:spPr>
            <a:xfrm>
              <a:off x="6876720" y="191628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rydock modu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00720" y="2133360"/>
              <a:ext cx="57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62560" y="3284640"/>
            <a:ext cx="2701800" cy="337320"/>
            <a:chOff x="4462560" y="3284640"/>
            <a:chExt cx="2701800" cy="337320"/>
          </a:xfrm>
        </p:grpSpPr>
        <p:sp>
          <p:nvSpPr>
            <p:cNvPr id="135" name=""/>
            <p:cNvSpPr/>
            <p:nvPr/>
          </p:nvSpPr>
          <p:spPr>
            <a:xfrm>
              <a:off x="4462560" y="3284640"/>
              <a:ext cx="22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1640" y="3429000"/>
              <a:ext cx="61272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372000" y="5589360"/>
            <a:ext cx="2233440" cy="441360"/>
            <a:chOff x="6372000" y="5589360"/>
            <a:chExt cx="2233440" cy="441360"/>
          </a:xfrm>
        </p:grpSpPr>
        <p:sp>
          <p:nvSpPr>
            <p:cNvPr id="138" name=""/>
            <p:cNvSpPr/>
            <p:nvPr/>
          </p:nvSpPr>
          <p:spPr>
            <a:xfrm>
              <a:off x="6876720" y="56624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372000" y="5589360"/>
              <a:ext cx="50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56000" y="5950080"/>
            <a:ext cx="2124000" cy="733320"/>
            <a:chOff x="2556000" y="5950080"/>
            <a:chExt cx="2124000" cy="733320"/>
          </a:xfrm>
        </p:grpSpPr>
        <p:sp>
          <p:nvSpPr>
            <p:cNvPr id="141" name=""/>
            <p:cNvSpPr/>
            <p:nvPr/>
          </p:nvSpPr>
          <p:spPr>
            <a:xfrm>
              <a:off x="2556000" y="5950080"/>
              <a:ext cx="21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8000" y="616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7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32015E-006 L 0.30555 -0.00926 E">
                                      <p:cBhvr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54291E-006 L 0.55712 0.07795 E">
                                      <p:cBhvr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31321E-009 L 0.41267 0.21397 E">
                                      <p:cBhvr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24757 0.2169 E">
                                      <p:cBhvr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Corrid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465280" cy="2886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1596"/>
          <a:stretch/>
        </p:blipFill>
        <p:spPr>
          <a:xfrm>
            <a:off x="1619280" y="1212840"/>
            <a:ext cx="65577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484360" y="1676520"/>
            <a:ext cx="5896080" cy="384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587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ical Corridor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7393E-006 L 0.36528 -0.00047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8 -0.00047 L 0.00295 -0.00047 E">
                                      <p:cBhvr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se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58960" y="1676520"/>
            <a:ext cx="74246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8154720" cy="30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4194360" cy="1701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4194360" cy="1731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1182E-006 L 0.4243 -0.02105 E"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21189E-007 L 0.43212 0.03331 E">
                                      <p:cBhvr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47040" cy="3197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194360" cy="173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4194360" cy="1702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92945E-006 L 0.44792 -0.02129 E">
                                      <p:cBhvr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079E-007 L 0.44011 0.03354 E">
                                      <p:cBhvr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tora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35280" y="1914480"/>
            <a:ext cx="4743360" cy="4943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3717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3.80985E-006 L 0.00469 0.15868 E">
                                      <p:cBhvr>
                                        <p:cTn id="21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V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6480" y="1676520"/>
            <a:ext cx="733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1T21:03:11Z</dcterms:modified>
  <cp:revision>25</cp:revision>
  <dc:subject/>
  <dc:title>Newton’s First Law</dc:title>
</cp:coreProperties>
</file>